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235-AED9-4034-98A7-0142F055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D46-EDEB-46C2-A0D2-5ED3D281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08F-A8E7-4034-A6E4-BFBCA6A7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DE6-6B8F-4174-9492-C734A116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23A8-4A3E-4E7D-9C99-AB1C498B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9D47-5245-471C-9D42-8BAAB107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39B1-9686-4026-A375-2C9C7522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1090-4141-4107-8FF3-2D21B194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1958-25B9-4929-84A0-F1A0F5A4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5B57-10B6-4072-BA8B-7AF5DBB6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901A-33E1-4172-9654-396E886B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2B32-8573-43BC-9613-80659567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FFEA-4474-4C9F-9820-E01061A6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5288-30A7-4E7D-AD2B-41DE3048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6994-599D-4552-8719-3D8B4475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41A5-7675-473F-B35A-8B8ABD43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C74C-D9F5-4935-9529-FDA0FEBD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CE920-7552-4ED5-8A34-3E86E197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77B92-E036-4EF9-A515-CA05FFE1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761DF-650A-4DD5-BE93-9E05DD96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9AB79-E126-42EE-B58A-A38CE7A6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F364A-0E93-4CC0-B841-18C8A0D4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CEF-CFAB-4026-83B8-3BD871A0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B821A-2FCE-42C4-B634-674100CA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A7422-9044-45CA-9A6D-B345F0BD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C42D1-0B77-478D-8C28-2541360D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C032F-3635-4BF7-8822-7FDAF6EB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19509-C6C7-4FA9-A064-2C064CA9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63AE0-1FC0-4BED-8FB3-AB68E416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E2883-DAC2-4533-92A4-9227C86A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73732-C075-4C6D-9C19-FFC530A5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3C535-9AEC-401B-AEB6-DB37BD7B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0EF77-9A89-41C8-8742-2A7CFA01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97B-D2C0-4589-854F-46424408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AD408-EB07-4DDE-8338-65D71548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64EC7-4B86-4AE8-99C5-54F08BAE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7CAC5-6EA1-4100-A716-8DCFCE03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2A94E-6F03-42AB-AA69-5CB1D6B3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2F959-631F-4871-9B80-80090959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956E2-CA5E-4528-8354-F0003D24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6E114-5A02-4EC8-9E7C-08DD476F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504BB-2D2E-4D6E-ACBB-CD4C8835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792C8-6347-43BA-8E8D-57DBD2E9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1957-0794-41F9-8FDB-DFD763C1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C7BB-2FED-4CB1-AAE0-F1E475B0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675-F8EA-4F30-A8C3-603C0C70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0E6-060D-4441-B1FA-EBAA3BE4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887-1B1D-495A-AB15-56DC6ED9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8F0F-8DD1-4735-9005-D98D2212995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9F34-9D0A-4A08-B405-F6D34CA23A3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E44C-0D50-491D-AB7A-D1E7B79B713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F84C-C998-4606-8997-391D94A2EC8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spiratory Syste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 Can” Quiz - Respi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Can Quiz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  Explain the function of the respiratory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  What are at least 5 organs found in the respiratory system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  What is the function of the alveoli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.  Draw the path that air takes through the respiratory syst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s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520" y="12189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The respiratory system provides oxygen to the body and helps remove carbon diox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 nasal cavity, pharynx, larynx, epiglotis, trachea, bronchi, bronchioles, alveoli, lungs, diaphr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 alveoli are the site of gas exchange between the respiratory and circulatory syste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6" descr="http://www.emc.maricopa.edu/faculty/farabee/biobk/humrespsys_1.gif"/>
          <p:cNvPicPr/>
          <p:nvPr/>
        </p:nvPicPr>
        <p:blipFill>
          <a:blip r:embed="rId1"/>
          <a:stretch/>
        </p:blipFill>
        <p:spPr>
          <a:xfrm>
            <a:off x="1295280" y="3962520"/>
            <a:ext cx="28972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piration Overvie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of your body’s cells require oxygen (remember, oxygen and glucose are used by your cells during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ellular respiratio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make ATP or energ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he respiratory system supplies oxygen and removes carbon dioxide from your bo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6" descr="https://encrypted-tbn2.gstatic.com/images?q=tbn:ANd9GcQwEyEwW5B_ACHi8Qlm_lTm6GXu1FczKVFCz-GheY_mA26q2lsk6A"/>
          <p:cNvPicPr/>
          <p:nvPr/>
        </p:nvPicPr>
        <p:blipFill>
          <a:blip r:embed="rId1"/>
          <a:stretch/>
        </p:blipFill>
        <p:spPr>
          <a:xfrm>
            <a:off x="6553080" y="15238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https://encrypted-tbn3.gstatic.com/images?q=tbn:ANd9GcQIalf4d-mmMCk3ngJoSBGml-iD_Fjdk8EWdZ30jf3kjbOVA8fPHWULEP3c"/>
          <p:cNvPicPr/>
          <p:nvPr/>
        </p:nvPicPr>
        <p:blipFill>
          <a:blip r:embed="rId2"/>
          <a:stretch/>
        </p:blipFill>
        <p:spPr>
          <a:xfrm>
            <a:off x="5257800" y="3581280"/>
            <a:ext cx="2971800" cy="27939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verview cont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he respiratory system is made up of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asal passag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harynx (upper throat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rynx (voice box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piglottis (a flap of tissue that keeps food from getting into the windpipe/trache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ache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ung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ronch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ronchio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veo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aphrag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6" descr="http://www.emc.maricopa.edu/faculty/farabee/biobk/humrespsys_1.gif"/>
          <p:cNvPicPr/>
          <p:nvPr/>
        </p:nvPicPr>
        <p:blipFill>
          <a:blip r:embed="rId1"/>
          <a:stretch/>
        </p:blipFill>
        <p:spPr>
          <a:xfrm>
            <a:off x="5334120" y="304920"/>
            <a:ext cx="3582720" cy="3047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https://encrypted-tbn2.gstatic.com/images?q=tbn:ANd9GcT1Q8mr59XSew1T29X-BXVdVpOg3BDeeENoa9Tqn8tTDFkLZmeL"/>
          <p:cNvPicPr/>
          <p:nvPr/>
        </p:nvPicPr>
        <p:blipFill>
          <a:blip r:embed="rId2"/>
          <a:stretch/>
        </p:blipFill>
        <p:spPr>
          <a:xfrm>
            <a:off x="6019920" y="3505320"/>
            <a:ext cx="24858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he Path of Ai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rst, air enters the mouth or nose.  Hairs in the nose filter out dust and other large particles in the ai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air-like structures called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ilia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ne the nasal passage (and other respiratory tubes), and trap foreign particles from the air and sweep them toward the throat so that they don’t enter the lungs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ucous membranes beneath the cilia in the nasal massage warm and moisten the air while trapping foreign materi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6" descr="https://encrypted-tbn0.gstatic.com/images?q=tbn:ANd9GcS7Biq6ZDrOgm1zNlPBQk_cUOetYzkwuAgGbY8-g5lTAaopBMtt"/>
          <p:cNvPicPr/>
          <p:nvPr/>
        </p:nvPicPr>
        <p:blipFill>
          <a:blip r:embed="rId1"/>
          <a:stretch/>
        </p:blipFill>
        <p:spPr>
          <a:xfrm>
            <a:off x="4495680" y="4114800"/>
            <a:ext cx="3411720" cy="2743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https://encrypted-tbn2.gstatic.com/images?q=tbn:ANd9GcQM8ywlHDU6WoXMRRPg25aApxLJ5_B4bnws7b2USiQ4-7sBdEoQ8Q"/>
          <p:cNvPicPr/>
          <p:nvPr/>
        </p:nvPicPr>
        <p:blipFill>
          <a:blip r:embed="rId2"/>
          <a:stretch/>
        </p:blipFill>
        <p:spPr>
          <a:xfrm>
            <a:off x="6629400" y="1905120"/>
            <a:ext cx="2300400" cy="164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https://encrypted-tbn2.gstatic.com/images?q=tbn:ANd9GcRD5e9YPRqzAlbXPqLt8bDBMfPsAKTBLIS2nNjmWfubC8GJfj7-"/>
          <p:cNvPicPr/>
          <p:nvPr/>
        </p:nvPicPr>
        <p:blipFill>
          <a:blip r:embed="rId3"/>
          <a:stretch/>
        </p:blipFill>
        <p:spPr>
          <a:xfrm>
            <a:off x="4648320" y="152280"/>
            <a:ext cx="1251000" cy="152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http://sitik.files.wordpress.com/2010/09/sinusitis3.jpg?w=300&amp;h=203"/>
          <p:cNvPicPr/>
          <p:nvPr/>
        </p:nvPicPr>
        <p:blipFill>
          <a:blip r:embed="rId4"/>
          <a:stretch/>
        </p:blipFill>
        <p:spPr>
          <a:xfrm>
            <a:off x="6781680" y="152280"/>
            <a:ext cx="1914480" cy="1295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http://sitik.files.wordpress.com/2010/09/sinusitis4.jpg?w=300&amp;h=203"/>
          <p:cNvPicPr/>
          <p:nvPr/>
        </p:nvPicPr>
        <p:blipFill>
          <a:blip r:embed="rId5"/>
          <a:stretch/>
        </p:blipFill>
        <p:spPr>
          <a:xfrm>
            <a:off x="4648320" y="1981080"/>
            <a:ext cx="19144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th of Air cont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filtered air now passes through the upper throat (the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pharynx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.  A flap of tissue called the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epiglottis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events food particles from entering the respiratory tubes (like the larynx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epiglottis allows air to pass from the larynx to a long tube in the chest called the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trache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(or windpipe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8" descr="http://www.theresourcesolutions.com/topics/human_body/images/where_55.jpg"/>
          <p:cNvPicPr/>
          <p:nvPr/>
        </p:nvPicPr>
        <p:blipFill>
          <a:blip r:embed="rId1"/>
          <a:stretch/>
        </p:blipFill>
        <p:spPr>
          <a:xfrm>
            <a:off x="4419720" y="1066680"/>
            <a:ext cx="4471920" cy="3657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https://encrypted-tbn0.gstatic.com/images?q=tbn:ANd9GcSfe3vIg5MjtmMz87VXHDaPenCw0HpIwdhDrr-8dz3JjVzg7AFNfw"/>
          <p:cNvPicPr/>
          <p:nvPr/>
        </p:nvPicPr>
        <p:blipFill>
          <a:blip r:embed="rId2"/>
          <a:stretch/>
        </p:blipFill>
        <p:spPr>
          <a:xfrm>
            <a:off x="5715000" y="4952880"/>
            <a:ext cx="21337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th of air cont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trachea branches into two large tubes, called 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bronchi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(singular is bronchus), which lead to the lung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lungs are the largest organs in the respiratory system, and this is where gas exchange takes plac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Each bronchus branches into smaller tubes called 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bronchiol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Bronchioles branch into even smaller passageways which end in an individual air sac called an 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alveoli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(alveolus singular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Each alveolus has a thin wall – only one cell thick – and is surrounded by 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capillari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6" descr="https://encrypted-tbn0.gstatic.com/images?q=tbn:ANd9GcR29D5P_9CC3F3rw9c7oqoYCN4mI7thdTuDhJyxRIXnCJuIaVyXyw"/>
          <p:cNvPicPr/>
          <p:nvPr/>
        </p:nvPicPr>
        <p:blipFill>
          <a:blip r:embed="rId1"/>
          <a:stretch/>
        </p:blipFill>
        <p:spPr>
          <a:xfrm>
            <a:off x="7048440" y="762120"/>
            <a:ext cx="2095560" cy="1904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https://encrypted-tbn1.gstatic.com/images?q=tbn:ANd9GcQAhbWlkyE4n28vSReZmucq6liORYuwod2Z4IFUsN85CIkpfYs8"/>
          <p:cNvPicPr/>
          <p:nvPr/>
        </p:nvPicPr>
        <p:blipFill>
          <a:blip r:embed="rId2"/>
          <a:stretch/>
        </p:blipFill>
        <p:spPr>
          <a:xfrm>
            <a:off x="4800600" y="2743200"/>
            <a:ext cx="2333520" cy="1952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https://encrypted-tbn1.gstatic.com/images?q=tbn:ANd9GcTkm-b9-B04y6lXWRnuzQ0pC17q_-PkUALGtxSn8QryeZso8qwJyw"/>
          <p:cNvPicPr/>
          <p:nvPr/>
        </p:nvPicPr>
        <p:blipFill>
          <a:blip r:embed="rId3"/>
          <a:stretch/>
        </p:blipFill>
        <p:spPr>
          <a:xfrm>
            <a:off x="7010280" y="4343400"/>
            <a:ext cx="2028960" cy="2247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https://encrypted-tbn2.gstatic.com/images?q=tbn:ANd9GcRaryZyaSKdkHMaGvgw-qzBvAuwR3KoUsksxVO2I3MCG3qd4BrE"/>
          <p:cNvPicPr/>
          <p:nvPr/>
        </p:nvPicPr>
        <p:blipFill>
          <a:blip r:embed="rId4"/>
          <a:stretch/>
        </p:blipFill>
        <p:spPr>
          <a:xfrm>
            <a:off x="4572000" y="762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http://content.karger.com/ProdukteDB/Katalogteile/isbn3_8055/_68/_62/samples/images/samp1_l.jpg"/>
          <p:cNvPicPr/>
          <p:nvPr/>
        </p:nvPicPr>
        <p:blipFill>
          <a:blip r:embed="rId5"/>
          <a:stretch/>
        </p:blipFill>
        <p:spPr>
          <a:xfrm>
            <a:off x="4343400" y="4876920"/>
            <a:ext cx="238140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as Exchange in the Lung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ir travels to individual alveoli, where oxygen diffuses across the thin capillary walls and into the blood 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oxygen is then taken to cells in the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arbon dioxide in the blood crosses the capillary walls and diffuses into the alveoli to be exhal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8" descr="http://diatronic.co.uk/nds/webpub/resp_memb.jpg"/>
          <p:cNvPicPr/>
          <p:nvPr/>
        </p:nvPicPr>
        <p:blipFill>
          <a:blip r:embed="rId1"/>
          <a:stretch/>
        </p:blipFill>
        <p:spPr>
          <a:xfrm>
            <a:off x="5791320" y="3619440"/>
            <a:ext cx="2209680" cy="3238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https://encrypted-tbn1.gstatic.com/images?q=tbn:ANd9GcQxtrI_Tz3h-S9eEEiwVB5aH_c9yhOa44pmLGYY7YcY0Zyxw2Jd"/>
          <p:cNvPicPr/>
          <p:nvPr/>
        </p:nvPicPr>
        <p:blipFill>
          <a:blip r:embed="rId2"/>
          <a:stretch/>
        </p:blipFill>
        <p:spPr>
          <a:xfrm>
            <a:off x="5638680" y="1752480"/>
            <a:ext cx="26481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reath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The brain controls the rate of breathing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y responding to internal stimuli that tell how much oxygen the body need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When you have lots of CO2 in your blood, your breathing rate increases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(because your cells need more oxyge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During inhalation (taking in oxygen), your diaphragm contracts, which causes the chest cavity to expand as the diaphragm moves down.  This allows air to move into the lung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In exhalation, the diaphragm relaxes, reduces the size of the chest cavity and air naturally flows out from the greater pressure of the lung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6" descr="https://encrypted-tbn3.gstatic.com/images?q=tbn:ANd9GcSfW3wenbX78wqBDXjK2HzmSu_gNa-TZ5yqy1ZsJvAuL87uhYcd"/>
          <p:cNvPicPr/>
          <p:nvPr/>
        </p:nvPicPr>
        <p:blipFill>
          <a:blip r:embed="rId1"/>
          <a:stretch/>
        </p:blipFill>
        <p:spPr>
          <a:xfrm>
            <a:off x="5791320" y="533520"/>
            <a:ext cx="2876400" cy="2876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http://www.freediving.biz/photo2/breathing.gif"/>
          <p:cNvPicPr/>
          <p:nvPr/>
        </p:nvPicPr>
        <p:blipFill>
          <a:blip r:embed="rId2"/>
          <a:stretch/>
        </p:blipFill>
        <p:spPr>
          <a:xfrm>
            <a:off x="5257800" y="3505320"/>
            <a:ext cx="33148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ssignment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aw a Venn Diagram that illustrates THREE differences and similarities between the respiratory system and circulatory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ll in Venn diagram as we watch the following vide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tp://www.youtube.com/watch?v=9fxm85Fy4sQ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20:17:35Z</dcterms:created>
  <dc:creator>byrds</dc:creator>
  <dc:description/>
  <dc:language>en-US</dc:language>
  <cp:lastModifiedBy>Ryan Edel</cp:lastModifiedBy>
  <dcterms:modified xsi:type="dcterms:W3CDTF">2013-12-12T21:36:52Z</dcterms:modified>
  <cp:revision>358</cp:revision>
  <dc:subject/>
  <dc:title>Unit 2 Notes</dc:title>
</cp:coreProperties>
</file>